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19.png" ContentType="image/png"/>
  <Override PartName="/ppt/media/image18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28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6.png" ContentType="image/png"/>
  <Override PartName="/ppt/media/image13.gif" ContentType="image/gif"/>
  <Override PartName="/ppt/media/image31.png" ContentType="image/png"/>
  <Override PartName="/ppt/media/image30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34.gif" ContentType="image/gi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F93F-159E-4A7B-96DA-F130A2F79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E26D-8DE6-4A7A-988A-9B51428E9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35F-1D73-4585-A67A-B0E36732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DD8-B653-46C5-8CBC-2859C854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40D-070E-497D-9953-A58861B3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A87-6084-4F75-BBF9-2E0C103E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686-A437-41DA-9CFE-94EE951C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E95-2BD1-4090-BC3D-38555E9F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DF7-0738-4DCE-93A5-C8043CAD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058-4B6D-4AE9-8675-0369958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817-E285-43FB-B33E-707F8AC4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607-19A6-419B-9C17-121EFAE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5C6-70E6-4D25-A63D-4865599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8BD-5782-4D9B-9F77-5054AEFF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6FAB-8C90-4138-ACC6-3991DD533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23920" y="1828440"/>
            <a:ext cx="4038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оектирование индивидуального образовательного маршрута и программы для детей с ОВЗ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040" y="495288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русская академия современного 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п.н., проф. МП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В.Микля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2459632_1001939746534518_654279275_n"/>
          <p:cNvPicPr/>
          <p:nvPr/>
        </p:nvPicPr>
        <p:blipFill>
          <a:blip r:embed="rId1"/>
          <a:stretch/>
        </p:blipFill>
        <p:spPr>
          <a:xfrm>
            <a:off x="457200" y="685800"/>
            <a:ext cx="403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Наталья\Desktop\Скриншот 27-06-2016 195220.png"/>
          <p:cNvPicPr/>
          <p:nvPr/>
        </p:nvPicPr>
        <p:blipFill>
          <a:blip r:embed="rId1"/>
          <a:stretch/>
        </p:blipFill>
        <p:spPr>
          <a:xfrm>
            <a:off x="798480" y="0"/>
            <a:ext cx="775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Наталья\Desktop\Скриншот 27-06-2016 195327.png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 таким образом, получает возможность пользоваться рекомендациями специалистов при планировании, выборе оптимальных форм организации образовательного процесса, а также методов и приёмов работы с детьми, находящимися в зоне повышенного внимания, и их родителями в течение всего учебного года, а не время от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Скриншот 23-02-2016 164218"/>
          <p:cNvPicPr/>
          <p:nvPr/>
        </p:nvPicPr>
        <p:blipFill>
          <a:blip r:embed="rId1"/>
          <a:stretch/>
        </p:blipFill>
        <p:spPr>
          <a:xfrm>
            <a:off x="914400" y="304920"/>
            <a:ext cx="71629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КОРРЕКЦИОННОМ И ИНКЛЮЗИВНОМ ОБРАЗОВАНИ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о Министерства образования и науки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7 июня 2013 г. № ИР-535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боре образовательного и реабилитационного маршрута ребенка-инвали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об определении формы и степени его инклюзии (интеграции) в образовательную среду, должен решаться психолого-медико-педагогическими комиссиями исходя, прежде всего, из потребностей, особенностей развития и возможностей ребенка, с непосредственным участием его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 термин "индивидуальный образовательный маршрут" используется при этом по отношению как к детям с особыми образовательными потребностями и ограниченными возможностями здоровья (Л.Пасечник, Е.В.Самсонова, О.А.Степанова, М.М.Семаго и др.), так и к  обучающимся с условной нормой развития или одаренным (С.В.Воробьева, Е.И.Казакова, H.A.Лабунская, Е.В. Пискунова, Г.К.Селевко, А.П. Тряпицы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и индивидуального образовательного маршрута (ИОМ). Понятия внутреннего и внешнего И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939960" y="1549440"/>
            <a:ext cx="77976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отношению к детям с ОВ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й образовательный маршрут определяется педагогами как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система конкретных совместных действий администрации, педагогов, междисциплинарной команды специалистов службы сопровождения, родител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включения ребенка с ограниченными возможностями здоровья в образовательный процесс (Воробьева С.В., Лабунская Н.А., Тряпицына А.П., Тимофеева Ю.Ф.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Наталья\Desktop\Скриншот 27-06-2016 215350.png"/>
          <p:cNvPicPr/>
          <p:nvPr/>
        </p:nvPicPr>
        <p:blipFill>
          <a:blip r:embed="rId1"/>
          <a:stretch/>
        </p:blipFill>
        <p:spPr>
          <a:xfrm>
            <a:off x="45720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80880" y="7617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утренние индивидуальные образовательные маршру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гут составляться психолого-медико-педагогическим консилиумом образовательного учреждения или специалистами структурных подразделений ДОУ. Они отражают комплексный подход к оказанию медицинской и коррекционно-педагогической поддержке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Наталья\Desktop\Скриншот 27-06-2016 215409.png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1460520"/>
            <a:ext cx="853416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 образование стало качественно иным: оно ориентируется не столько на запрос государства, сколько на учет запросов всех участников образовательных отношений, включая изучение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образовательных потребнос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учающихся и их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индивидуальных особеннос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Наталья\Desktop\Скриншот 27-06-2016 215350.png"/>
          <p:cNvPicPr/>
          <p:nvPr/>
        </p:nvPicPr>
        <p:blipFill>
          <a:blip r:embed="rId1"/>
          <a:stretch/>
        </p:blipFill>
        <p:spPr>
          <a:xfrm>
            <a:off x="45720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индивидуального образовательного маршрут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риентирована на достижение воспитанником государственного стандарта,  на результаты освоения общеобразовательной программы в соответствии с индивидуальными возможностями и образовательными потребностями ребенка. При этом на первый план выходит оценка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уровня готовности обучаю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 освоению образовательной программы 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овень компенса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чень умений, определяющих развитие ребенка (ПУОР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е «Маленькие ступеньки», например, в той сфере, которую назы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сприятием ре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ы найдете следующие группы ум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А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мение слушать и концентрировать вним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юда входят основные умения, от которых зависят последующие, более сложные умения, связанные с восприятием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Б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мение реагировать на жесты и выполнять простые указ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десь ребенок учится понимать смысл простых жестов, слов и ф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В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мение выбирать из разных предметов и картин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десь малыш узнает названия предметов. Позже мы будем учить его обращать внимание на функциональное назначение предметов и категории к которым они относ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Г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мение выполнять указания, в которых есть слова, обозначающие 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десь малыш учится понимать слова, обозначающие действия и, следовательно, учится выполнять указания, которые предполагают какое-либо действие с его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Д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мение выполнять указания, в которых есть слова, обозначающие признаки или выражающие состоя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десь малыш учится понимать слова, описывающие предметы, то есть, прилагательные и наре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Е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мение выполнять указания, содержащие предлоги или другие слова, которые определяют местоположение одного предмета относительно другог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десь ребенок учится понимать слова, обозначающие местопо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Ж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мение реагировать на грамматические особ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десь мы учим ребенка распознавать маленькие "грамматические" словечки или звуки, которые влияют на смысл всего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УОРР входят 4 проверочные таблицы, которые охватывают соответствующие области разви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щая мо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есть двигательная деятельность, обусловленная работой крупных мышц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нкая мо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двигательная деятельность, обусловленная работой мелких мышц руки, и требующая хорошей зрительно-моторной координации. Кроме того, к этой области развития мы отнесли формирование у ребенка понятий, необходимых для овладения учебными дисциплинами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сприятие ре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понимание ребенком того, что ему говор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ообслуживание и социальные навы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есть, способность самостоятельно выполнять свои личные потребности и умение взаимодействовать с окружающ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ык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разговорной речи оцениваются иначе, с использованием программы раннего речевого развития ("ГОВОРИ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освоения ум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0 до 3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3 до 6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6 до 9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9 до 12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12 до 15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15 до 18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18 месяцев до 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2 до 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3 до 4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адемические навыки и компетен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в зависи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одержания адаптированной образовательной программы, реализующей образовательную услугу для группы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индивидуального образовательного маршрута ребенка и индивидуальной программы реабилитации инвалида (Федеральный закон «О социальной защите инвалидов в Российской Федерации»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зненные компетен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при этом формируются у детей с ОВЗ, в соответствии с ФГОС обучающихся с ОВЗ (2015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Развитие адекватных представлений о собственных возможностях и ограничениях, о насущно необходимом жизнеобеспечении, способности вступать в коммуникацию со взрослым, чтобы попросить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Овладение социально-бытовыми умениями, используемыми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Овладение навыками коммун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 Дифференциация и осмысление картины мира и ее временно-пространственной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 Осмысление своего социального окружения и освоение соответствующих возрасту системы ценностей и социальных р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ражение в АО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ым условием реализации АООП является составление индивидуального образовательного маршрута, который даёт представление о ресурсах и дефицитах в развитии ребенка, о видах трудностей, возникающих при освоении основной образовательной программы ДО; раскрывает причину, лежащую в основе трудностей; содержит примерные виды деятельности, осуществляемые субъектами сопров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юансы разработки ИОМ в условиях инклю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8840" y="1372680"/>
            <a:ext cx="8458200" cy="4970520"/>
          </a:xfrm>
          <a:prstGeom prst="rect">
            <a:avLst/>
          </a:prstGeom>
          <a:noFill/>
          <a:ln w="0">
            <a:noFill/>
          </a:ln>
        </p:spPr>
        <p:txBody>
          <a:bodyPr lIns="17136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дение дополнительных ставок в образовательных учреждения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зующих инклюзивную практи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усмотр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ическими рекомендац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оставлению штатных распис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х образовательных учрежд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лизующих общеобразовательные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ы Департамента образования города Москвы, утвержде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казом Департамента образования г. Москвы от 1 марта 2011 г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№ 16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но п. 24 при наличии в организации не ме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 детей с ограниченными возможностями здоровья могут бы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дены следующие долж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ист (координатор по инклюзивному образованию) - 0,5 единиц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-дефектолог - 1 единиц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-психолог - 0,5 единиц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ьютор - 1 едини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568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«индивидуальными образовательными потребностями» ребёнка с ОВЗ понимаются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собенности мотивационной, познавательной , эмоционально-волевой сферы дошкольник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ющие особую специфику, обусловленную характером дефекта развития, для удовлетворения которых в процессе воспитания и обучения требуются особые усло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6840" y="3805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, например,  задача "развития коммуникативных способностей" из образовательной области "Социально-коммуникативное развитие" применительно к ребенку пятого года жизни с тугоухостью 3-4 ст. может быть  конкретизирована следующим образом с учетом его специфических образовательных потребно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коммуникативных способностей, умения взаимодействовать со сверстниками в быту, в иг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эмоциональной сферы, обогащение невербальных средств коммуникации, формирование навыков адекватного эмоционального реагирования на совершенное действие или посту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щение опыта социально адекватной оценки хороших и плохих поступ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родителей к накоплению опыта доброжелательных взаимоотношений со сверстниками и взрос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ные в данном блоке задачи и содержание реализуются тьютором, сопровождающим ребенка, в соответствии с приказами Минздравсоц-развития РФ от 5 мая 2008 г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№216-н и 217-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4" descr="01.jpg"/>
          <p:cNvPicPr/>
          <p:nvPr/>
        </p:nvPicPr>
        <p:blipFill>
          <a:blip r:embed="rId1"/>
          <a:stretch/>
        </p:blipFill>
        <p:spPr>
          <a:xfrm>
            <a:off x="2438280" y="533520"/>
            <a:ext cx="4267440" cy="52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Наталья\Desktop\Скриншот 27-06-2016 085159.png"/>
          <p:cNvPicPr/>
          <p:nvPr/>
        </p:nvPicPr>
        <p:blipFill>
          <a:blip r:embed="rId1"/>
          <a:stretch/>
        </p:blipFill>
        <p:spPr>
          <a:xfrm>
            <a:off x="0" y="152280"/>
            <a:ext cx="9150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руктура индивидуального образовательного маршру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ключает следующие компон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ев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становка целей, определение задач образовательной работ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5325_prev_98[1]"/>
          <p:cNvPicPr/>
          <p:nvPr/>
        </p:nvPicPr>
        <p:blipFill>
          <a:blip r:embed="rId1"/>
          <a:stretch/>
        </p:blipFill>
        <p:spPr>
          <a:xfrm>
            <a:off x="5257800" y="1905120"/>
            <a:ext cx="2629080" cy="2743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838080" y="609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уктура И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тель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бор содержания программного материала на основе совмещения или перекрещивания программ воспитания и обучения детей с нормальным и нарушенным развитие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пределение используемых педагогических технологий, методов, методик, систем обучения и воспитания с учетом индивидуальных особенностей ребенка и контингента инклюзивной группы и детского са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агност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пределение системы диагностического сопровождения, систематизация и корректировка методик диагностики в соответствии с направлениями общего мониторинга, описанного в образовательной программе детского сад, и специального мониторинг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42667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онно-коррекционно-педагогичес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словия и пути достижения коррекционных, педагогических ц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5" descr="national-geographic-photo-of-the-day-internet-favorites-2015-28__880.jpg"/>
          <p:cNvPicPr/>
          <p:nvPr/>
        </p:nvPicPr>
        <p:blipFill>
          <a:blip r:embed="rId1"/>
          <a:stretch/>
        </p:blipFill>
        <p:spPr>
          <a:xfrm>
            <a:off x="1752480" y="457200"/>
            <a:ext cx="5288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4724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ультатив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рмулируются ожидаемые результаты, сроки их достижения и критерии оценки эффективности реализуемых мероприятий, прогнозируются результаты реализации индивидуального образовательного маршрута в инклюзивных группах и уровни социально-психологической адаптированности воспитан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30672_prev_98"/>
          <p:cNvPicPr/>
          <p:nvPr/>
        </p:nvPicPr>
        <p:blipFill>
          <a:blip r:embed="rId1"/>
          <a:stretch/>
        </p:blipFill>
        <p:spPr>
          <a:xfrm>
            <a:off x="5486400" y="22096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ст контроля динамики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яется на основе заключений специалистов учреждения по итогам обучения и воспитания в январе и м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документ также включает в себя рекомендации, заключение об эффективности коррекционно – развивающей работы за данный промежуток времени и учебный г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ожительная дина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высокий уровень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ожительная дина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выше среднего уровень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ельно – положительная дина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средний уровень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значительная дина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низкий уровень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ицательная дина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невозможность ребёнка усвоить содержание того или иного раздела программ)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лнообразная динами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бирательная дина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1" descr="Скриншот 23-02-2016 155840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1398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удивление"/>
          <p:cNvPicPr/>
          <p:nvPr/>
        </p:nvPicPr>
        <p:blipFill>
          <a:blip r:embed="rId2"/>
          <a:stretch/>
        </p:blipFill>
        <p:spPr>
          <a:xfrm>
            <a:off x="3048120" y="3505320"/>
            <a:ext cx="2676240" cy="26762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597680" y="914400"/>
            <a:ext cx="64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АЯ ОБРАЗОВАТЕЛЬ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рианты И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ая образовательная программа разрабатывается для следующих категорий обучающихся с особыми образовательными потребност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ети с ОВЗ, получающие образование в форме индивидуального обучения на дому, в том числе дети-инвали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Дети с ОВЗ, получающие образование в форме дистанционного обучения, в том числе дети-инвали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Дети с ОВЗ, выбравшие профессиональный профиль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Дети с ОВЗ, обучающиеся в форме очного обучения во фронтальном режиме в рамках реализации инклюзивной прак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Современные научные представления позволили ученым выделить общие для разных категорий детей с ОВЗ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собые образовательные потребност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аспект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времени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начала специального образования - потребность в совпадении начала целенаправленного обучения с моментом определения нарушения в развитии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аспекте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одержания образования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потребность во введении специальных разделов обучения, отсутствующих в содержании образования нормально развивающегося ребёнка (например, занятия по развитию слухо-зрительного и зрительного восприятия речи у глухих, слабослышащих и позднооглохших детей,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аспекте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етодов и средств обучения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потребность в построении «обходных путей», использовании специфических средств обучения, современных коррекционн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аспекте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рганизации обучения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потребность в качественной индивидуализации обучения, в разработке и реализации индивидуальной образовательной программы для конкретного ребенка с ОВ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моделировании такой программы важно учитывать следу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разработанные Л.А.Головчиц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сторонний характер образовательной работы, общность набора направлений коррекционно-развивающей работы для всех детей, независимо от уровня психофизического развития и личностных особен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ный характер участия в подготовке программы и ее реализации всех специалистов, работающих с ребенком, участие родителей в разработке программы как полноценных участников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ритетность задач воспитания, направленность на адаптацию, социализацию и социальное развитие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объема содержания, методов и специфических приемов работы в зависимости от характера и выраженности первичных и вторичных отклонений в развит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сохранных способностей и обучаемости ребенка, опираясь на которые можно решать задачи коррекционного воз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ический характер отбора материала на каждом последующем этапе: постепенное обогащение содержания различных тем, реализация принципа от простого к слож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ение сквозных тематических связей между различным разделами программы в деятельности учителей-дефектологов и воспитателей, других специалистов,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моделир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й программы включают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медицинских данных и комплексное психолого-педагогическое обследование ребенка участниками педагогического процесс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задач, содержания и методов образовательной и коррекционно-развивающей работы на определенный период работы (от 2 месяцев с детьми раннего возраста до 1 года или 3 лет с дошкольниками), совместное обсуждение и установление взаимосвязи между всеми направлениями работы, коррекционными разделами и образовательными област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программы в соответствии с принятой в данном учреждении фор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щее планирование и коррекционное обучение в соответствии с програм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ектирующий контроль результатов образования и составление индивидуальной программы на следующий период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ая образовательная программа для работы с ребенком раннего возра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 Е.А.Стребелев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ча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Здоровье и условия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одержание и формы реализации ИО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выки самообслуживания и культурно-гигиенические навы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е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ческое воспит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познава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нсорное воспит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наглядно-действенного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накомление с окружающ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количественных представ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игров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продуктивных видов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ЧА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ическая работа с род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36989_prev_98"/>
          <p:cNvPicPr/>
          <p:nvPr/>
        </p:nvPicPr>
        <p:blipFill>
          <a:blip r:embed="rId1"/>
          <a:stretch/>
        </p:blipFill>
        <p:spPr>
          <a:xfrm>
            <a:off x="6705720" y="33526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работки и оформления соответствующих индивидуальных образовательных программ есть рекомендации Л.А.Головчиц, Е.А.Стребелевой, Н.Д.Шматко и других специалистов, которые создали дифференцированные модели таких программ для разных категорий детей с ограниченными возможностями здоровья - и они актуальны до сих пор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разработчикам нужно понимать, что вне зависимости от формы описания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е програм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 быть представле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е сведения о ребенке и его психолого-педагогическая характерист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 развития, воспитания и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е и коррекционно-развивающие программы, на которых строится обучение и вос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и содержание образовательной деятельности с учетом уровня готовности ребенка к освоению основной или адаптированной програм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замысел и содержание коррекционной работы по всем направлениям, осуществляемым специалистами (с разделением их на кварталы иди этапы обу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воспитания и обучения, коррекции и соответствующие им методические приемы (игры, упражнения, действия с предметами и картинками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 для работы в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тодических рекомендациях специалистов МГППУ предлагается следующ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нного документа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итульный лист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казанием ее назначения, срока реализации и грифа утвер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яснительная запис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которой излагается краткая психолого-педагогическая характеристика ребенка с перечнем сформированных и не сформированных умений и навы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бственной структура индивидуальной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ключ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цели и задач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индивидуальный учебный пл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537560" y="-6987240"/>
            <a:ext cx="47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УСТАНОВОЧНЫЕ ДАННЫЕ</a:t>
            </a:r>
            <a:br>
              <a:rPr sz="1200"/>
            </a:br>
            <a:r>
              <a:rPr b="1" lang="ru-RU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для составления индивидуального учебного плана обучающего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293760"/>
          <a:ext cx="8686800" cy="6205320"/>
        </p:xfrm>
        <a:graphic>
          <a:graphicData uri="http://schemas.openxmlformats.org/drawingml/2006/table">
            <a:tbl>
              <a:tblPr/>
              <a:tblGrid>
                <a:gridCol w="1674720"/>
                <a:gridCol w="1424160"/>
                <a:gridCol w="1604880"/>
                <a:gridCol w="1378080"/>
                <a:gridCol w="1620720"/>
                <a:gridCol w="984240"/>
              </a:tblGrid>
              <a:tr h="82224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учебный план для обучающегося дошкольного отделения </a:t>
                      </a:r>
                      <a:r>
                        <a:rPr b="1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(подготовительная к школе групп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модуль, числ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уемые формы организации образователь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ДО, ПООП, ВО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й раздел (комплексные програм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ое образование (парциальные програм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Физическ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Физкультура в помещении - 2 раза в неделю (72 раза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Добавить задачи ориентировки в пространст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(в зал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НОД: 2 раза в неделю (72 раза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Физкультура на улице - 1 раз в неделю (36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Обучение подвижным и спортивным играм на прогулке (группово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СОД: 1 раз в неделю (36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537560" y="-6987240"/>
            <a:ext cx="47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УСТАНОВОЧНЫЕ ДАННЫЕ</a:t>
            </a:r>
            <a:br>
              <a:rPr sz="1200"/>
            </a:br>
            <a:r>
              <a:rPr b="1" lang="ru-RU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для составления индивидуального учебного плана обучающего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990720"/>
          <a:ext cx="8610480" cy="4419360"/>
        </p:xfrm>
        <a:graphic>
          <a:graphicData uri="http://schemas.openxmlformats.org/drawingml/2006/table">
            <a:tbl>
              <a:tblPr/>
              <a:tblGrid>
                <a:gridCol w="1660320"/>
                <a:gridCol w="1413000"/>
                <a:gridCol w="1589040"/>
                <a:gridCol w="1365120"/>
                <a:gridCol w="1606680"/>
                <a:gridCol w="976320"/>
              </a:tblGrid>
              <a:tr h="1310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Познавательн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ЦКМ - 1 раз в неделю (36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ить задачи социально-бытовой ориент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Индивидуальные занятия с тифлопедагог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ИЗ: 3 раза в неделю (108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ЭМП - 2 раза в неделю (72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ить задачи развития зрительного вос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е - 1 раз в неделю (36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ить количество часов и сделать накладку на ФЭМ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ориентировки в пространстве на основе конструктивно-модельной деятельности (подгруппово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: 1 раз в неделю (36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7560" y="-6987240"/>
            <a:ext cx="47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УСТАНОВОЧНЫЕ ДАННЫЕ</a:t>
            </a:r>
            <a:br>
              <a:rPr sz="1200"/>
            </a:br>
            <a:r>
              <a:rPr b="1" lang="ru-RU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для составления индивидуального учебного плана обучающего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533520"/>
          <a:ext cx="8305560" cy="5943600"/>
        </p:xfrm>
        <a:graphic>
          <a:graphicData uri="http://schemas.openxmlformats.org/drawingml/2006/table">
            <a:tbl>
              <a:tblPr/>
              <a:tblGrid>
                <a:gridCol w="1601640"/>
                <a:gridCol w="1362240"/>
                <a:gridCol w="1533240"/>
                <a:gridCol w="1317600"/>
                <a:gridCol w="1549440"/>
                <a:gridCol w="941400"/>
              </a:tblGrid>
              <a:tr h="1596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Речев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речи - 2 раза в неделю (72 ча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Проводить как бинарную НОД воспитателя и дефектол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Бинарная НОД "Развитие речи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: 2 раза в неделю (72 ча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Увеличить количество часов за счет С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ический практикум по  обучению элементам грамоты (подгрупповая Н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НОД: 1 раз в неделю (36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 с логопедом по коррекции звукопроиз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ИЗ: 2 раза в неделю (72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аспекте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родолжительности образования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потребность в пролонгированности процесса обучения и выход за рамки школьного возраста (вертикаль образовательной инклюзии: детский сад, школа, техникум, университ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аспекте определения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круга специалист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, участвующих в образовании, модели их эффективного взаимо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аспекте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границ образовательного пространства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потребность в своевременном определении всех направлений развития «социального вывиха», которые могут возникнуть у ребенка в силу характера первичного нарушения, и возраста, в котором оно наступило; потребность в максимальном расширении образовательного пространства за пределы 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57200" y="685800"/>
          <a:ext cx="8229600" cy="5105520"/>
        </p:xfrm>
        <a:graphic>
          <a:graphicData uri="http://schemas.openxmlformats.org/drawingml/2006/table">
            <a:tbl>
              <a:tblPr/>
              <a:tblGrid>
                <a:gridCol w="1585800"/>
                <a:gridCol w="1351080"/>
                <a:gridCol w="1519200"/>
                <a:gridCol w="1305000"/>
                <a:gridCol w="1535040"/>
                <a:gridCol w="933480"/>
              </a:tblGrid>
              <a:tr h="2040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Социально-коммуникативн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Сформировать умения и навыки социализации коммуник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Добавить время на решение задач социально-бытовой ориентировки в проблемных коммуникативных ситуац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й практикум по развитию социально-бытовой ориентировке (подгрупповая С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СОД: 1 раз в неделю  (72 в 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коммуникативный тренинг по подготовке детей к обучению в школе (подгрупповая С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СОД: 1 раз в неделю (36 в год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80880" y="380880"/>
          <a:ext cx="8458200" cy="6034320"/>
        </p:xfrm>
        <a:graphic>
          <a:graphicData uri="http://schemas.openxmlformats.org/drawingml/2006/table">
            <a:tbl>
              <a:tblPr/>
              <a:tblGrid>
                <a:gridCol w="1630440"/>
                <a:gridCol w="1387440"/>
                <a:gridCol w="1562040"/>
                <a:gridCol w="1341720"/>
                <a:gridCol w="1577880"/>
                <a:gridCol w="958680"/>
              </a:tblGrid>
              <a:tr h="7333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Рисование - 2 раза в неделю (72 в 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Добавить развитие мелкой мотор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ить развитие зрительного восприятия: цвет, форма, величи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оспитатель + дефекто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Бинарные Н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НОД: 3 раза в неделю (108 в 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Лепка - 0,5 в неделю (18 в 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Аппликация - 0,5 в неделю (18 в 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Музыка - 2 раза в неделю (72 в 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Добавить ориентировку в пространстве (музыкальный руководитель + дефекто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Бинарные Н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НОД: 2 раза в неделю (72 в 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Итого в г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НОД: 288 часов в год (учебные часы, то есть условные единицы, соответствующие САНиПИН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СОД по адаптированной образовательной программе: 144 часа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ИЗ по индивидуальной образовательной программе: 180 часов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В среднем </a:t>
                      </a: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(в неделю и в д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020"/>
                          </a:solidFill>
                          <a:latin typeface="Times New Roman"/>
                          <a:ea typeface="Times New Roman"/>
                        </a:rPr>
                        <a:t>Итого 17 часов в неделю на реализацию ИОМ (индивидуального образовательного маршрута), т.е. 3,4 часа в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ОД (по Н.Я.Ратановой, Е.В.Андрющенк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684920" cy="3133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"/>
          <p:cNvPicPr/>
          <p:nvPr/>
        </p:nvPicPr>
        <p:blipFill>
          <a:blip r:embed="rId2"/>
          <a:stretch/>
        </p:blipFill>
        <p:spPr>
          <a:xfrm>
            <a:off x="600120" y="4429080"/>
            <a:ext cx="75420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541800" y="132120"/>
            <a:ext cx="8061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лан индивидуальной логокоррекционной работы на 200_/00__ уч.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амилия, имя ребенка — Иванов С. Логопедическое заключение: ФФН, минимальные проявления дизарт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609480"/>
          <a:ext cx="9144000" cy="6302520"/>
        </p:xfrm>
        <a:graphic>
          <a:graphicData uri="http://schemas.openxmlformats.org/drawingml/2006/table">
            <a:tbl>
              <a:tblPr/>
              <a:tblGrid>
                <a:gridCol w="476280"/>
                <a:gridCol w="5234040"/>
                <a:gridCol w="2138400"/>
                <a:gridCol w="12952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направления логокоррекционн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артикуляционной моторик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яционные упражн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ический массаж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 языка, г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равильного звукопроизнош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-з-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-ж-ч-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-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 // --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фонематических проце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, групп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ие, обогащение словаря по темам: гриб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ныши животных; продукты п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слоговой структурой малознакомых и труднопроизносимых с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е грамматического строя реч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ение имен существительных в родительном падеже множественного чис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ование имен числительных с именами существительны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ение в речи несклоняемых существите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, групп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е психологической базы реч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 объема зрительной и слуховой памя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вербального мыш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одержание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ключающее в себя три основных бл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ый компонен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онный компонент, в рамках которого излагаются направления коррекционной работы специалистов сопровождения  с обучающимся, ее приемы, методы и формы, рекомендации выше указанных специалистов учителю и родителя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ный компонент, содержащий раздел классного руководителя с рекомендациями для родителей обучающегос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ет противопоказаний и введение зам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я упражнения для детей с ОВЗ, необходимо пользоваться рекомендациями разработанными сотрудниками кафедры физического воспитания Государственного педагогического университета им. А.И. Герцена (по итогам конференции «Запрещенные и ограниченные упражнения в дошкольных учреждениях» 25 апреля 2002 г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76320"/>
          <a:ext cx="8915400" cy="6629400"/>
        </p:xfrm>
        <a:graphic>
          <a:graphicData uri="http://schemas.openxmlformats.org/drawingml/2006/table">
            <a:tbl>
              <a:tblPr/>
              <a:tblGrid>
                <a:gridCol w="3095640"/>
                <a:gridCol w="3429000"/>
                <a:gridCol w="2390760"/>
              </a:tblGrid>
              <a:tr h="93024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ограни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ованная за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008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овые вращения г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табильность шейного отдела позвоночника, плохо сформированные мышцы шеи, возможно смещение шейных позвон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клоны вперед, в стороны, повор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484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клоны головы наз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а отсутст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9864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ировка верхнего отдела брюшного пресса: поднимать туловище из положения лежа на спине, руки согнуты под голо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резмерное напряжение мышц шеи, возможно чересчур сильное надавливание руками на шейный отдел позвоноч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ить положение р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256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ировка нижнего отдела брюшного пресса: поднимать ноги вместе из положения лежа на сп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натуживания оказывает влияние на сосуды шеи и головы, возможно увеличение поясничного лорд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нимать и опускать ноги поперем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76320"/>
          <a:ext cx="8915400" cy="6781680"/>
        </p:xfrm>
        <a:graphic>
          <a:graphicData uri="http://schemas.openxmlformats.org/drawingml/2006/table">
            <a:tbl>
              <a:tblPr/>
              <a:tblGrid>
                <a:gridCol w="3095640"/>
                <a:gridCol w="3429000"/>
                <a:gridCol w="2390760"/>
              </a:tblGrid>
              <a:tr h="8874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ограни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ованная 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6044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вырок впер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табильность шейного отдела позвоночника, плохо сформированные мышцы ше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а отсутств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0648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ат на спине, удерживая руками кол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 фиксация шейного отдела позвоноч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упражнение только со страховкой педаг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6044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иб в поясничном отделе из положения лежа на животе с упором на выпрямленные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 увеличение поясничного лордоза, защемление поясничных дис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упражнение на согнутых руках, опираясь на лок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0648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дение на пят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 перерастяжение сухожилий и связок коленного суст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дение по-турец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6044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дыхательных упражнений с одновременным поднятием рук ввер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 поступления кислорода за счет сокращения мышц верхнего плечевого поя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ить положение рук: в стороны или на поя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76320"/>
          <a:ext cx="9144000" cy="6629400"/>
        </p:xfrm>
        <a:graphic>
          <a:graphicData uri="http://schemas.openxmlformats.org/drawingml/2006/table">
            <a:tbl>
              <a:tblPr/>
              <a:tblGrid>
                <a:gridCol w="3174840"/>
                <a:gridCol w="3516480"/>
                <a:gridCol w="2452680"/>
              </a:tblGrid>
              <a:tr h="12841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ограни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ованная за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0968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ы более 5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ть и перерастяжение связочно-мышечного аппар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а отсутст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48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ки босиком по жесткому покрыт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й связочно-мышечный аппарат стопы, несформированность костей плюс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ки только на гимнастических ма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111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 босиком с опорой на переднюю часть сто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формированность костей плюс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 в спортивной обу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130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набивного мяча двумя ру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оответствие массы тела  и веса мя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ить вес мяча -0.5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0520" y="1447920"/>
            <a:ext cx="80010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ниторинг достижений обучающегося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тором конкретно сформулированы результаты реализации программы на уровне динамики показателей психического и психологического развития обучающегося и уровне сформированности ключевых компете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35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использов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ндивидуально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ы развития – выявление и обобщение в одном документе индивидуальных психофизических, личностных особенностей ребёнка, уровня его психического развития, усвоения программного материала и проектирование, на основе этого, индивидуального образовательного маршрута в рамках образовательного процесса ДО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678680" y="533520"/>
            <a:ext cx="60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ДИВИДУАЛЬНАЯ КАРТА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880" y="6854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ключение и рекомендаци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торых формулируется обоснование внесения корректив по результатам промежуточной диагностики и заключение о реализации индивидуальной программы в це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4920" y="3808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е  рекомендации к ФГОС ОВЗ ВК-452_07 от 11.03.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6" descr="20160310_027.jpg"/>
          <p:cNvPicPr/>
          <p:nvPr/>
        </p:nvPicPr>
        <p:blipFill>
          <a:blip r:embed="rId1"/>
          <a:stretch/>
        </p:blipFill>
        <p:spPr>
          <a:xfrm>
            <a:off x="609480" y="1495440"/>
            <a:ext cx="78487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Наталья\Desktop\ИОМ и ИОП\Спец индивид программа развития ребенка с ОВЗ\Скриншот 20-03-2016 125904.png"/>
          <p:cNvPicPr/>
          <p:nvPr/>
        </p:nvPicPr>
        <p:blipFill>
          <a:blip r:embed="rId1"/>
          <a:stretch/>
        </p:blipFill>
        <p:spPr>
          <a:xfrm>
            <a:off x="457200" y="0"/>
            <a:ext cx="831384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Наталья\Desktop\ИОМ и ИОП\Спец индивид программа развития ребенка с ОВЗ\Скриншот 20-03-2016 130033.png"/>
          <p:cNvPicPr/>
          <p:nvPr/>
        </p:nvPicPr>
        <p:blipFill>
          <a:blip r:embed="rId1"/>
          <a:stretch/>
        </p:blipFill>
        <p:spPr>
          <a:xfrm>
            <a:off x="0" y="304920"/>
            <a:ext cx="876312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Наталья\Desktop\ИОМ и ИОП\Спец индивид программа развития ребенка с ОВЗ\Скриншот 20-03-2016 130050.png"/>
          <p:cNvPicPr/>
          <p:nvPr/>
        </p:nvPicPr>
        <p:blipFill>
          <a:blip r:embed="rId1"/>
          <a:srcRect l="0" t="0" r="0" b="62824"/>
          <a:stretch/>
        </p:blipFill>
        <p:spPr>
          <a:xfrm>
            <a:off x="0" y="685800"/>
            <a:ext cx="9144000" cy="2971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Наталья\Desktop\ИОМ и ИОП\Спец индивид программа развития ребенка с ОВЗ\Скриншот 20-03-2016 130050.png"/>
          <p:cNvPicPr/>
          <p:nvPr/>
        </p:nvPicPr>
        <p:blipFill>
          <a:blip r:embed="rId2"/>
          <a:srcRect l="0" t="67784" r="0" b="0"/>
          <a:stretch/>
        </p:blipFill>
        <p:spPr>
          <a:xfrm>
            <a:off x="0" y="3657600"/>
            <a:ext cx="912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Наталья\Desktop\ИОМ и ИОП\Спец индивид программа развития ребенка с ОВЗ\Скриншот 20-03-2016 130112.png"/>
          <p:cNvPicPr/>
          <p:nvPr/>
        </p:nvPicPr>
        <p:blipFill>
          <a:blip r:embed="rId1"/>
          <a:stretch/>
        </p:blipFill>
        <p:spPr>
          <a:xfrm>
            <a:off x="0" y="457200"/>
            <a:ext cx="9121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Наталья\Desktop\ИОМ и ИОП\Спец индивид программа развития ребенка с ОВЗ\Скриншот 20-03-2016 130428.png"/>
          <p:cNvPicPr/>
          <p:nvPr/>
        </p:nvPicPr>
        <p:blipFill>
          <a:blip r:embed="rId1"/>
          <a:stretch/>
        </p:blipFill>
        <p:spPr>
          <a:xfrm>
            <a:off x="0" y="457200"/>
            <a:ext cx="9190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Users\Наталья\Desktop\ИОМ и ИОП\Спец индивид программа развития ребенка с ОВЗ\Скриншот 20-03-2016 130450.png"/>
          <p:cNvPicPr/>
          <p:nvPr/>
        </p:nvPicPr>
        <p:blipFill>
          <a:blip r:embed="rId1"/>
          <a:stretch/>
        </p:blipFill>
        <p:spPr>
          <a:xfrm>
            <a:off x="38088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ктор СИПР для школьников с ОВЗ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ttp://ege.pskgu.ru/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Объект 3" descr=""/>
          <p:cNvPicPr/>
          <p:nvPr/>
        </p:nvPicPr>
        <p:blipFill>
          <a:blip r:embed="rId1"/>
          <a:stretch/>
        </p:blipFill>
        <p:spPr>
          <a:xfrm>
            <a:off x="162000" y="1432080"/>
            <a:ext cx="88200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Объект 3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678168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Объект 3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риант первый: совмещение ИОМ и И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«безбарьерной»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0880" y="3657600"/>
          <a:ext cx="8305920" cy="1859040"/>
        </p:xfrm>
        <a:graphic>
          <a:graphicData uri="http://schemas.openxmlformats.org/drawingml/2006/table">
            <a:tbl>
              <a:tblPr/>
              <a:tblGrid>
                <a:gridCol w="2057400"/>
                <a:gridCol w="2506680"/>
                <a:gridCol w="3741840"/>
              </a:tblGrid>
              <a:tr h="185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ые задачи на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урсы для решения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602720" y="45648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Психолого-педагогическое сопровож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1295280"/>
          <a:ext cx="8305920" cy="1311480"/>
        </p:xfrm>
        <a:graphic>
          <a:graphicData uri="http://schemas.openxmlformats.org/drawingml/2006/table">
            <a:tbl>
              <a:tblPr/>
              <a:tblGrid>
                <a:gridCol w="1524240"/>
                <a:gridCol w="2286000"/>
                <a:gridCol w="1523880"/>
                <a:gridCol w="297180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ое напр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и на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и 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15"/>
          <p:cNvSpPr/>
          <p:nvPr/>
        </p:nvSpPr>
        <p:spPr>
          <a:xfrm>
            <a:off x="2205360" y="3245760"/>
            <a:ext cx="47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Коррекционно-развивающая раб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3962520"/>
          <a:ext cx="7972560" cy="1217520"/>
        </p:xfrm>
        <a:graphic>
          <a:graphicData uri="http://schemas.openxmlformats.org/drawingml/2006/table">
            <a:tbl>
              <a:tblPr/>
              <a:tblGrid>
                <a:gridCol w="1351080"/>
                <a:gridCol w="2021040"/>
                <a:gridCol w="2530440"/>
                <a:gridCol w="2070000"/>
              </a:tblGrid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я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 по каждому направле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ы и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е показа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650480" y="4428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ец учителя-дефектолога Э.А. Бид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C:\Users\Наталья\Desktop\Скриншот 27-06-2016 235719.png"/>
          <p:cNvPicPr/>
          <p:nvPr/>
        </p:nvPicPr>
        <p:blipFill>
          <a:blip r:embed="rId1"/>
          <a:stretch/>
        </p:blipFill>
        <p:spPr>
          <a:xfrm>
            <a:off x="228600" y="762120"/>
            <a:ext cx="8362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Наталья\Desktop\Скриншот 27-06-2016 235734.png"/>
          <p:cNvPicPr/>
          <p:nvPr/>
        </p:nvPicPr>
        <p:blipFill>
          <a:blip r:embed="rId1"/>
          <a:stretch/>
        </p:blipFill>
        <p:spPr>
          <a:xfrm>
            <a:off x="304920" y="762120"/>
            <a:ext cx="86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Наталья\Desktop\Скриншот 27-06-2016 235759.pn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758600" y="532800"/>
            <a:ext cx="553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Формирование социальной компет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8080" y="1219320"/>
          <a:ext cx="7386840" cy="1800000"/>
        </p:xfrm>
        <a:graphic>
          <a:graphicData uri="http://schemas.openxmlformats.org/drawingml/2006/table">
            <a:tbl>
              <a:tblPr/>
              <a:tblGrid>
                <a:gridCol w="1636920"/>
                <a:gridCol w="1385640"/>
                <a:gridCol w="1274760"/>
                <a:gridCol w="1276560"/>
                <a:gridCol w="181296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ретные задачи на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 достиж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оценки достиж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17"/>
          <p:cNvSpPr/>
          <p:nvPr/>
        </p:nvSpPr>
        <p:spPr>
          <a:xfrm>
            <a:off x="3087000" y="324576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Работа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3280320" y="4037760"/>
            <a:ext cx="24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20087_prev_98[1]"/>
          <p:cNvPicPr/>
          <p:nvPr/>
        </p:nvPicPr>
        <p:blipFill>
          <a:blip r:embed="rId1"/>
          <a:stretch/>
        </p:blipFill>
        <p:spPr>
          <a:xfrm>
            <a:off x="6324480" y="41148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26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второй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совмещения ИОМ и индивидуальной образовательной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енний индивидуальный образовательный маршр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04920" y="3505320"/>
          <a:ext cx="8305560" cy="2087280"/>
        </p:xfrm>
        <a:graphic>
          <a:graphicData uri="http://schemas.openxmlformats.org/drawingml/2006/table">
            <a:tbl>
              <a:tblPr/>
              <a:tblGrid>
                <a:gridCol w="4984560"/>
                <a:gridCol w="1192320"/>
                <a:gridCol w="1060560"/>
                <a:gridCol w="1068120"/>
              </a:tblGrid>
              <a:tr h="20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занят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.И.О. специали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363760" y="532800"/>
            <a:ext cx="43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«безбарьерной»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1295280"/>
          <a:ext cx="7596360" cy="1311480"/>
        </p:xfrm>
        <a:graphic>
          <a:graphicData uri="http://schemas.openxmlformats.org/drawingml/2006/table">
            <a:tbl>
              <a:tblPr/>
              <a:tblGrid>
                <a:gridCol w="1392120"/>
                <a:gridCol w="620424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роение комфортной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урсы для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11"/>
          <p:cNvSpPr/>
          <p:nvPr/>
        </p:nvSpPr>
        <p:spPr>
          <a:xfrm>
            <a:off x="720360" y="3245760"/>
            <a:ext cx="77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Специальные условия организации педагогическ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3886200"/>
          <a:ext cx="7391160" cy="1219320"/>
        </p:xfrm>
        <a:graphic>
          <a:graphicData uri="http://schemas.openxmlformats.org/drawingml/2006/table">
            <a:tbl>
              <a:tblPr/>
              <a:tblGrid>
                <a:gridCol w="3111480"/>
                <a:gridCol w="427968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ребности реб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Наталья\Desktop\Скриншот 27-06-2016 195054.png"/>
          <p:cNvPicPr/>
          <p:nvPr/>
        </p:nvPicPr>
        <p:blipFill>
          <a:blip r:embed="rId1"/>
          <a:stretch/>
        </p:blipFill>
        <p:spPr>
          <a:xfrm>
            <a:off x="304920" y="380880"/>
            <a:ext cx="82296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908000" y="259020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своение образовательной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832400" y="45648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сихолого-педагогическое сопровож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066680" y="1295280"/>
          <a:ext cx="7315200" cy="959040"/>
        </p:xfrm>
        <a:graphic>
          <a:graphicData uri="http://schemas.openxmlformats.org/drawingml/2006/table">
            <a:tbl>
              <a:tblPr/>
              <a:tblGrid>
                <a:gridCol w="1020960"/>
                <a:gridCol w="1773000"/>
                <a:gridCol w="2071800"/>
                <a:gridCol w="2449440"/>
              </a:tblGrid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ре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00400"/>
          <a:ext cx="9140760" cy="2209680"/>
        </p:xfrm>
        <a:graphic>
          <a:graphicData uri="http://schemas.openxmlformats.org/drawingml/2006/table">
            <a:tbl>
              <a:tblPr/>
              <a:tblGrid>
                <a:gridCol w="835200"/>
                <a:gridCol w="1190520"/>
                <a:gridCol w="1488960"/>
                <a:gridCol w="3267000"/>
                <a:gridCol w="1398600"/>
                <a:gridCol w="96048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разовательные области 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ования к результатам освоения 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ретные задачи для ребенка на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детской деятельност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образователь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ниторинг – показатели достиже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а уровне целевых ориентир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оценки результатов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2135520" y="38016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ррекционно-развивающая раб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295280"/>
          <a:ext cx="9144000" cy="2835360"/>
        </p:xfrm>
        <a:graphic>
          <a:graphicData uri="http://schemas.openxmlformats.org/drawingml/2006/table">
            <a:tbl>
              <a:tblPr/>
              <a:tblGrid>
                <a:gridCol w="1073160"/>
                <a:gridCol w="1625760"/>
                <a:gridCol w="1301760"/>
                <a:gridCol w="1382400"/>
                <a:gridCol w="2028960"/>
                <a:gridCol w="1731960"/>
              </a:tblGrid>
              <a:tr h="283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я коррекционно-развивающей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ретные задачи для ребенка на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организации УД (фронтальные, подгрупповые, индивид. занятия 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    дости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оценки результатов рабо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сформирова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- в стадии форм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 сформиро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19"/>
          <p:cNvSpPr/>
          <p:nvPr/>
        </p:nvSpPr>
        <p:spPr>
          <a:xfrm>
            <a:off x="1984320" y="4647600"/>
            <a:ext cx="49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нешний образовательный маршру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0880" y="5257800"/>
          <a:ext cx="8458200" cy="944640"/>
        </p:xfrm>
        <a:graphic>
          <a:graphicData uri="http://schemas.openxmlformats.org/drawingml/2006/table">
            <a:tbl>
              <a:tblPr/>
              <a:tblGrid>
                <a:gridCol w="3492720"/>
                <a:gridCol w="2327040"/>
                <a:gridCol w="1551240"/>
                <a:gridCol w="10872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ское сопрово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Наталья\Desktop\Скриншот 27-06-2016 214858.png"/>
          <p:cNvPicPr/>
          <p:nvPr/>
        </p:nvPicPr>
        <p:blipFill>
          <a:blip r:embed="rId1"/>
          <a:stretch/>
        </p:blipFill>
        <p:spPr>
          <a:xfrm>
            <a:off x="187200" y="1523880"/>
            <a:ext cx="8944200" cy="38862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"/>
          <p:cNvSpPr/>
          <p:nvPr/>
        </p:nvSpPr>
        <p:spPr>
          <a:xfrm>
            <a:off x="3657240" y="609480"/>
            <a:ext cx="52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ец учителя-дефектолога Т.И.Ефрем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Наталья\Desktop\Скриншот 27-06-2016 214930.png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Users\Наталья\Desktop\Скриншот 27-06-2016 234310.png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Наталья\Desktop\Скриншот 27-06-2016 234324.png"/>
          <p:cNvPicPr/>
          <p:nvPr/>
        </p:nvPicPr>
        <p:blipFill>
          <a:blip r:embed="rId1"/>
          <a:stretch/>
        </p:blipFill>
        <p:spPr>
          <a:xfrm>
            <a:off x="0" y="0"/>
            <a:ext cx="926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Наталья\Desktop\Скриншот 27-06-2016 234338.png"/>
          <p:cNvPicPr/>
          <p:nvPr/>
        </p:nvPicPr>
        <p:blipFill>
          <a:blip r:embed="rId1"/>
          <a:stretch/>
        </p:blipFill>
        <p:spPr>
          <a:xfrm>
            <a:off x="0" y="7632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уппе вводи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онный угол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оснащен следующим дидактическим материалом, подобранным с учетом возрастных особенностей детей и особенностей зрительного восприятия слабовидящего ребенка, отвечающим требованиям программного содержания по развитию ориентировки в пространст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сязания и мелкой моторики –шнуровка, нанизывание бус крупного размера, мозаика с крупными вкладышами, штрихов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ррекции зрительного восприятия – объемно-выпуклые (рельефные) иллюстрации, силуэтное, контурное изображение предметов (при этом контур рисунка должен быть четким, выделен жирно), муляжи, чучела животных и птиц, натуральные предметы, составление разрезных картинок, аппликация, танграм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графических навыков – контурные изображения предметов, тетради в крупную клетку (подготовительная группа), фломастеры, карандаши для обведения трафаретов, прорисовки контура по точкам, штрих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Users\Наталья\Desktop\Скриншот 27-06-2016 234351.png"/>
          <p:cNvPicPr/>
          <p:nvPr/>
        </p:nvPicPr>
        <p:blipFill>
          <a:blip r:embed="rId1"/>
          <a:stretch/>
        </p:blipFill>
        <p:spPr>
          <a:xfrm>
            <a:off x="0" y="152280"/>
            <a:ext cx="90597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Users\Наталья\Desktop\Скриншот 27-06-2016 234433.png"/>
          <p:cNvPicPr/>
          <p:nvPr/>
        </p:nvPicPr>
        <p:blipFill>
          <a:blip r:embed="rId1"/>
          <a:stretch/>
        </p:blipFill>
        <p:spPr>
          <a:xfrm>
            <a:off x="152280" y="228600"/>
            <a:ext cx="89204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Наталья\Desktop\Скриншот 27-06-2016 195157.png"/>
          <p:cNvPicPr/>
          <p:nvPr/>
        </p:nvPicPr>
        <p:blipFill>
          <a:blip r:embed="rId1"/>
          <a:stretch/>
        </p:blipFill>
        <p:spPr>
          <a:xfrm>
            <a:off x="228600" y="1143000"/>
            <a:ext cx="8683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85800" y="533520"/>
            <a:ext cx="76201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год обучения направлен на формирование навыков самообслуживания и развития мелкой моторики по результатам диагностического об-следования ребенка. Коррекционные занятия проводятся индивидуа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год обучения направлен на формирование пространственных представлений и формирование представлений о способах зрительного восприятия предметов. Коррекционные занятия проводятся индивидуально, но с постепенным включением ребенка в подгрупповые занятия, в зависимости от сложности материала и 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3 год обучения планируется продолжение работы по развитию пространственных представлений и развитию мелкой моторики рук. Коррекционные занятия проводятся индивидуально. Педагог, ориентируясь на индивидуальные возможности ребенка, продолжает включать его в подгрупповые заня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4 году обучения планируется включение ребенка в подгрупповые коррекционные занятия, и индивидуальные занятия. Работа ориентирована на освоение всех разделов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Объект 3" descr=""/>
          <p:cNvPicPr/>
          <p:nvPr/>
        </p:nvPicPr>
        <p:blipFill>
          <a:blip r:embed="rId1"/>
          <a:stretch/>
        </p:blipFill>
        <p:spPr>
          <a:xfrm>
            <a:off x="800280" y="160020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12:50:23Z</dcterms:created>
  <dc:creator>Наташа</dc:creator>
  <dc:description/>
  <dc:language>en-US</dc:language>
  <cp:lastModifiedBy>user</cp:lastModifiedBy>
  <dcterms:modified xsi:type="dcterms:W3CDTF">2019-11-26T12:39:17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